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0BA-E44B-4D71-AA8D-FF1D56F3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C1E-551E-4D6E-BB4D-AD88EB78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0D9-7BE8-4823-8155-C862DC16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E9E-67F8-468A-89D6-43C2B01E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A2F9-7A95-479F-8443-6BAE229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A69-6F01-42DA-A171-4E2E5B84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4700-FAF0-46F0-842F-6337025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C2BD-1D87-4171-9F9B-0E026786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54F4-201C-4500-8A06-CEE07467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E1EE-0733-4DC1-80D5-71174F19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4A9D-9A7B-46D0-85F6-14646C6B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209-AB98-42BD-BA62-D7CE3E5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4E10-43A4-4D79-BBD2-63A10DB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5D40-E488-4374-BB26-50E7B92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A8FA-F21D-41FD-A469-A25E265E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D176-8EFC-4BF9-B648-27491B99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F0F-3CF5-4AC4-BA5C-263DB9C3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7A48-E53E-4612-97C9-7848913C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C019-2640-45E7-91C3-34962F87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515D-16DA-4049-B163-9517EDFE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8840-E141-4F7D-83F6-867D0251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BCEA-CE17-4C22-B3E0-EE2E9E1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CD5-D266-46E3-9684-6D7263D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55AD-26C1-4610-BC65-393F2A6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3046-FD9F-4E6C-BDCD-755D5D4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A954-A171-48AD-B856-2D899DF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763E-5A28-4895-8967-C736F5E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18C7-D6FC-452D-A2B8-6DA2958F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34ED-07D2-4F6D-82EA-0B2E0937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7496-E154-45E3-B97D-0FF306AF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CAF-BC6C-4EF8-8AD9-E343C13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150-257E-4AE1-8D26-564CB89C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184-18BD-4A54-87BD-1AB980BD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D4A-30EB-40CC-9255-9273C51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207-A9BE-4F30-9CFA-B834C2A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EB5-C3A9-48C2-A74D-4C1DA39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3B22-E88A-4CE6-A58B-EC27D270472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716E-6A4B-4306-81AA-CCEEA245969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2660-6C8A-457B-BAEB-C0F3FD43466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A10D-12E3-407C-B0AB-685EB2620F4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09EB-C0C7-4589-A909-C921002E594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FEB3-3832-4DA1-9F60-6DA539FC764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04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counting for Invent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rchandise Inventory is typically the largest asset of a merchandising busines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vailable but no exces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st of Merchandise Inventory is reported on both the Balance Sheet and Income State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ffec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Retained Earnings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n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Current Assets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n the Balance Shee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Gross Profi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nd Net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ncome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on the Income State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Quantity of Merchandise Inventory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9000" y="107784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News Gothic MT"/>
              </a:rPr>
              <a:t>Larger Than Need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2133360"/>
            <a:ext cx="384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More space and Mone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astes capit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More Expense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0920" y="107784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News Gothic MT"/>
              </a:rPr>
              <a:t>Less than Need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50920" y="2133360"/>
            <a:ext cx="384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ales lost to competitor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sufficient Varie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mall orders cost mo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ventory Metho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00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b7d7"/>
                </a:solidFill>
                <a:latin typeface="News Gothic MT"/>
              </a:rPr>
              <a:t>Physic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9000" y="2347920"/>
            <a:ext cx="38401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hysically counting, measuring, or weighing merchandise on hand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lso known as Periodic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ypically performed at specific times (End of Fiscal Period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092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b7d7"/>
                </a:solidFill>
                <a:latin typeface="News Gothic MT"/>
              </a:rPr>
              <a:t>Perpetu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50920" y="2347920"/>
            <a:ext cx="38401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ontinuous record of tracking merchandise on hand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lso known as Book Inventor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ypically tracked using computer system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8432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VENTORY RECOR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7" name="Picture 4" descr="D:\C21 PowerPoint\Multi_Journal\art for blue\Ch22\Ch22-01a.jpg"/>
          <p:cNvPicPr/>
          <p:nvPr/>
        </p:nvPicPr>
        <p:blipFill>
          <a:blip r:embed="rId2"/>
          <a:srcRect l="18822" t="0" r="0" b="65331"/>
          <a:stretch/>
        </p:blipFill>
        <p:spPr>
          <a:xfrm>
            <a:off x="457200" y="1752480"/>
            <a:ext cx="8153280" cy="340704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152388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7162920" y="25909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724280" y="3352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14440" y="59961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Price and Total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14440" y="525780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tock Number an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14440" y="562284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344360" y="67809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1, page 5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77720" y="11430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during Physical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4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TOCK RECOR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7" name="Picture 4" descr="D:\C21 PowerPoint\Multi_Journal\art for blue\Ch22\Ch22-01b.jpg"/>
          <p:cNvPicPr/>
          <p:nvPr/>
        </p:nvPicPr>
        <p:blipFill>
          <a:blip r:embed="rId2"/>
          <a:srcRect l="16061" t="0" r="0" b="63144"/>
          <a:stretch/>
        </p:blipFill>
        <p:spPr>
          <a:xfrm>
            <a:off x="457200" y="1477800"/>
            <a:ext cx="7238880" cy="388152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1752480" y="39164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7467480" y="42973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4800600" y="4678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14440" y="62546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alance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14440" y="551664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urchas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14440" y="588168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1, page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3400" y="9129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Perpetual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Universal Product Cod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457200" y="18702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perform the function of a stock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cides with the Point Of Sale (POS) system to efficiently keep track of inventory, reducing the inventory when a product is s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Inventory is still needed to affirm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20:08:25Z</dcterms:created>
  <dc:creator>Mary Colleen McLaughlin</dc:creator>
  <dc:description/>
  <dc:language>en-US</dc:language>
  <cp:lastModifiedBy>David Combs</cp:lastModifiedBy>
  <dcterms:modified xsi:type="dcterms:W3CDTF">2011-10-30T21:32:23Z</dcterms:modified>
  <cp:revision>69</cp:revision>
  <dc:subject/>
  <dc:title>ADJUSTING ENTRY FOR SUPPLIES</dc:title>
</cp:coreProperties>
</file>